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C28-E917-4D28-919B-7BBDDBDF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F469-68EE-432C-9B94-F592F9BA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C46-2FB9-440B-A5B4-ABE39BE8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87A-6461-45E5-9569-84A36E1F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891-1CB1-43B2-ADBD-64525A4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777-DF72-450F-B89D-3E238F14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587-E411-401D-8D96-FFDDD67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C92-2730-4F61-8E49-383C544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AC1-F010-4B59-8C9E-02988EFE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F61-B62B-4372-93F3-E287A85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E19-14E8-4377-9F1B-C38BF85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A88-C84A-4158-B394-A2BD908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22E-3D8C-4581-9AD7-766F1E6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1F2-4C6D-4487-B6ED-83D4C2B8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C55A-A011-4107-853B-FFF7E351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mie Me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mie Medin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e llamo es Jamie.  Yo vivo en Woodside, New York.  Tengo 14 años.  Tengo dos hermanos. Yo soy feliz!!!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2590920"/>
            <a:ext cx="592200" cy="76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mi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@Amina Puedes vener a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y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819520" y="1905120"/>
            <a:ext cx="373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Como estas amigas y 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Photo on 12-3-12 at 9.46 AM.jpg"/>
          <p:cNvPicPr/>
          <p:nvPr/>
        </p:nvPicPr>
        <p:blipFill>
          <a:blip r:embed="rId11"/>
          <a:stretch/>
        </p:blipFill>
        <p:spPr>
          <a:xfrm>
            <a:off x="2057400" y="3276720"/>
            <a:ext cx="53964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01Z</dcterms:modified>
  <cp:revision>104</cp:revision>
  <dc:subject/>
  <dc:title>Profile</dc:title>
</cp:coreProperties>
</file>